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46B68-8322-454B-99A8-F0541BE23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0E9C-D489-4CAE-B679-E2185D27E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2D6BD-991B-4777-B7BC-AD701B9FF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D2D3F-2094-4CE2-B8EA-2877B0A50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D24A1-2813-40AD-90A5-6B1D494C3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2D98D-F90D-44AC-AED0-D218EC3A2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294ED-2E5C-414A-A70A-7A6AECE6B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CE1D5-2C4B-4B7D-A8F0-D93F0204E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7F4B8-C425-4B29-B1F9-487A9E235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7FC1A-03A3-415B-A703-FA8A34E47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2F76-5983-44BD-B064-373BDBBA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B8A0-57E8-4C30-A9FA-C67231D6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604BA-EB2C-41D9-950E-700004683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565E0-711E-4365-A3C1-78F2A7B17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E9DC1-C946-461D-8789-19B2FD280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268C7-89E4-4A3C-8CD5-FD55BC280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18D94-4080-4A42-B78F-2FA30AD09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ED8E1-8E32-4AB8-9A7C-BE02A910C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A7CB3-96DE-47E2-AD2A-3EB8CD59C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8AC8D-0E0B-44E6-BFF2-48B3F2DE7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0FC5C-E75F-46BE-853E-A8241F4F7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A85AE7-53EC-42A2-B4CA-09D3B7593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C7E1-0F89-4F37-A4F2-5579BB61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301AA2-B99D-4319-A0B3-7B599ABAD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E6966-8775-4380-A474-1E3757A47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E07A3-65AC-409A-A381-F4BDACE24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D3221-D47E-4F84-B5E2-2490F745E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1C688-0837-4B0B-8903-2DDE83B4F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F4A6C-C72E-43BE-9E31-C0D8815DA8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0815DA-E123-45BC-8142-6B16304921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88A26-4B42-4989-99E3-939ECAD89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346E2-F646-4A35-A41F-82369DCB3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ED70B-8EAB-4BD3-AF62-3BB5E1C64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89245-57BF-442A-8CF1-FF5587B3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7065D-B09A-42DE-ACF9-5492DC0F9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9D59A-9A35-4600-8EDE-08FEF75C0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DF81E-06D0-488E-817B-E5CF676D1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944E5-5DF8-4785-AC16-A0B2672D7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4805C-40D8-4CB4-AA33-A703BF165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66313-B2AB-4908-BF68-AAB99E2A8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92ED2-462E-4D58-80A9-395E13D80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67A110-2D2F-443D-A9F9-97216EB66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3E0E6-0FC1-473C-9890-ABFE666F63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1D7E-22B9-45E9-A3C0-81BB82D7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82C30-B4E5-47DF-BCF2-1201FACB3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7A76-9440-4150-96F1-E996B1B8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2388-D5BC-4D44-A282-53817EF26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74D9-9798-49D3-B2D9-9CBF42281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F4D1-E64F-4E50-9409-7A204B35BF7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B48E-0B4C-45EA-9714-1F223341A10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DAC4-AA3D-41E1-9A03-8F96DCC11B3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106A-63FD-4735-BF55-0E44BFD8DF0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lf, Wolfgang, und Max</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ach wir fahren von Berlin nach Potsdam mit die Bah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in die Stadt.  Dann wir gehen in den Brunnen.  Der Brunnen ist sehr kühl.  Dann wir gehen in den Zoo.  Wir lieben die Elefanten.  Danach wir gehen in das Museum.  Zuletzt wir gehen in den Universitä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Cont’d)</a:t>
            </a:r>
            <a:endParaRPr b="0" lang="en-US" sz="5000" spc="-1" strike="noStrike">
              <a:solidFill>
                <a:srgbClr val="04617b"/>
              </a:solidFill>
              <a:latin typeface="Calibri"/>
            </a:endParaRPr>
          </a:p>
        </p:txBody>
      </p:sp>
      <p:pic>
        <p:nvPicPr>
          <p:cNvPr id="221" name="Content Placeholder 3" descr="University_of_Potsdam_at_Neues_Palais.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Hotel</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 Voltaire Potsd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4.75 €/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3" descr="1107140-t2-z2w.jpg"/>
          <p:cNvPicPr/>
          <p:nvPr/>
        </p:nvPicPr>
        <p:blipFill>
          <a:blip r:embed="rId1"/>
          <a:stretch/>
        </p:blipFill>
        <p:spPr>
          <a:xfrm>
            <a:off x="1981080" y="2743200"/>
            <a:ext cx="5264280" cy="394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Hotel (Cont’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taire Hotel hat einem Fitnessraum und Wellness-Cen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Radio (AM und F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inem Minib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n wir fahren von Potsdam nach Brandenburg mit die Bah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in die Stadt.  Die Stadt hat viele Leutue.  Dann wir gehen auf das Theater.  Dann wir gehen in den Zoo.  (Wir lieben die Elefanten).  Danach wir gehen in das Brandenburg Tor.  Zuletzt wir gehen in das Hote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a:t>
            </a:r>
            <a:endParaRPr b="0" lang="en-US" sz="5000" spc="-1" strike="noStrike">
              <a:solidFill>
                <a:srgbClr val="04617b"/>
              </a:solidFill>
              <a:latin typeface="Calibri"/>
            </a:endParaRPr>
          </a:p>
        </p:txBody>
      </p:sp>
      <p:pic>
        <p:nvPicPr>
          <p:cNvPr id="232" name="Content Placeholder 3" descr="berlinbrandenburggate_large.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 Hotel</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cona Hotel Am Havelufer Potsd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0 €/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5" name="Picture 3" descr="546039_69_b.jpg"/>
          <p:cNvPicPr/>
          <p:nvPr/>
        </p:nvPicPr>
        <p:blipFill>
          <a:blip r:embed="rId1"/>
          <a:stretch/>
        </p:blipFill>
        <p:spPr>
          <a:xfrm>
            <a:off x="1676520" y="3048120"/>
            <a:ext cx="5257800" cy="318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 Hotel (Cont’d)</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ist an dem Flu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xpress-Checko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inem Parkplatz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fliegen von Chicago nach Poland, dann Poland nach Deutschland (Berl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tel Adlon</a:t>
            </a:r>
            <a:endParaRPr b="0" lang="en-US" sz="5000" spc="-1" strike="noStrike">
              <a:solidFill>
                <a:srgbClr val="04617b"/>
              </a:solidFill>
              <a:latin typeface="Calibri"/>
            </a:endParaRPr>
          </a:p>
        </p:txBody>
      </p:sp>
      <p:pic>
        <p:nvPicPr>
          <p:cNvPr id="239" name="Content Placeholder 3" descr="Hotel-Adlon-Kempinski-Berlin-pic1.jpg"/>
          <p:cNvPicPr/>
          <p:nvPr/>
        </p:nvPicPr>
        <p:blipFill>
          <a:blip r:embed="rId1"/>
          <a:stretch/>
        </p:blipFill>
        <p:spPr>
          <a:xfrm>
            <a:off x="903240" y="1676520"/>
            <a:ext cx="6792840" cy="40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letzt wir fliegen von Deutschland nach Chicag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ise</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19.06 EUR: Flugzeu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37.40 EUR: Bahn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11.26 EUR: Hotel Berli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14.75 EUR: Hotel Potsdam</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39.79 EUR: Hotel Brandenbur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 EUR: Zoo (x3)</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 EUR: Museum (x2)</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00 EUR: Esse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ree: Memorials, Brunnen, Städte.</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327.74 EUR:  Hotel Adlon Berlin</a:t>
            </a:r>
            <a:endParaRPr b="0" lang="en-US" sz="1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tal: 11,000 EU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nk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ugzeug</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1" name="Picture 5" descr="scan0001.jpg"/>
          <p:cNvPicPr/>
          <p:nvPr/>
        </p:nvPicPr>
        <p:blipFill>
          <a:blip r:embed="rId1"/>
          <a:srcRect l="1104" t="0" r="0" b="43333"/>
          <a:stretch/>
        </p:blipFill>
        <p:spPr>
          <a:xfrm>
            <a:off x="1981080" y="1828800"/>
            <a:ext cx="49323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h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5" descr="scan0002.jpg"/>
          <p:cNvPicPr/>
          <p:nvPr/>
        </p:nvPicPr>
        <p:blipFill>
          <a:blip r:embed="rId1"/>
          <a:srcRect l="0" t="26667" r="0" b="38892"/>
          <a:stretch/>
        </p:blipFill>
        <p:spPr>
          <a:xfrm>
            <a:off x="2133720" y="2514600"/>
            <a:ext cx="498636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p of Travel (Red)</a:t>
            </a:r>
            <a:endParaRPr b="0" lang="en-US" sz="5000" spc="-1" strike="noStrike">
              <a:solidFill>
                <a:srgbClr val="04617b"/>
              </a:solidFill>
              <a:latin typeface="Calibri"/>
            </a:endParaRPr>
          </a:p>
        </p:txBody>
      </p:sp>
      <p:pic>
        <p:nvPicPr>
          <p:cNvPr id="206" name="Picture 4" descr="germany_map of travel"/>
          <p:cNvPicPr/>
          <p:nvPr/>
        </p:nvPicPr>
        <p:blipFill>
          <a:blip r:embed="rId1"/>
          <a:stretch/>
        </p:blipFill>
        <p:spPr>
          <a:xfrm>
            <a:off x="1523880" y="1600200"/>
            <a:ext cx="5867640" cy="46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zu dem Berliner Mauer.  Dann wir gehen in den Zoo Aquarium Berlin.  Danach wir fahren zu dem Pergamonmuseum.  Dann wir bisichtigen im Reichstag.  Zuletzt wir gehen im Holocaust-Mahnm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Cont’d)</a:t>
            </a:r>
            <a:endParaRPr b="0" lang="en-US" sz="5000" spc="-1" strike="noStrike">
              <a:solidFill>
                <a:srgbClr val="04617b"/>
              </a:solidFill>
              <a:latin typeface="Calibri"/>
            </a:endParaRPr>
          </a:p>
        </p:txBody>
      </p:sp>
      <p:pic>
        <p:nvPicPr>
          <p:cNvPr id="210" name="Content Placeholder 3" descr="Berlin_Mitte_by_night.jpg"/>
          <p:cNvPicPr/>
          <p:nvPr/>
        </p:nvPicPr>
        <p:blipFill>
          <a:blip r:embed="rId1"/>
          <a:stretch/>
        </p:blipFill>
        <p:spPr>
          <a:xfrm>
            <a:off x="1785960" y="2367000"/>
            <a:ext cx="5572080" cy="35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Hotel</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ininger Hotel Berlin HaupBahnh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2.43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3" name="Picture 3" descr="3030615_14_b.jpg"/>
          <p:cNvPicPr/>
          <p:nvPr/>
        </p:nvPicPr>
        <p:blipFill>
          <a:blip r:embed="rId1"/>
          <a:stretch/>
        </p:blipFill>
        <p:spPr>
          <a:xfrm>
            <a:off x="2666880" y="27432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Hotel (Cont’d)</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ist in das </a:t>
            </a:r>
            <a:r>
              <a:rPr b="0" lang="de-DE" sz="2600" spc="-1" strike="noStrike">
                <a:solidFill>
                  <a:srgbClr val="000000"/>
                </a:solidFill>
                <a:latin typeface="Constantia"/>
              </a:rPr>
              <a:t>Regierungsviert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as Hotel hat Klimaanlage und einem Aufzu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 </a:t>
            </a:r>
            <a:r>
              <a:rPr b="0" lang="de-DE" sz="2600" spc="-1" strike="noStrike">
                <a:solidFill>
                  <a:srgbClr val="000000"/>
                </a:solidFill>
                <a:latin typeface="Constantia"/>
              </a:rPr>
              <a:t>Meininger Hotel hat einem Fernsehlrau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8:25:50Z</dcterms:created>
  <dc:creator>CUSD220</dc:creator>
  <dc:description/>
  <dc:language>en-US</dc:language>
  <cp:lastModifiedBy> </cp:lastModifiedBy>
  <dcterms:modified xsi:type="dcterms:W3CDTF">2012-01-14T00:18:25Z</dcterms:modified>
  <cp:revision>9</cp:revision>
  <dc:subject/>
  <dc:title>Slide 1</dc:title>
</cp:coreProperties>
</file>